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15067"/>
        <c:axId val="3850111"/>
      </c:barChart>
      <c:catAx>
        <c:axId val="50915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0111"/>
        <c:crosses val="autoZero"/>
        <c:auto val="1"/>
        <c:lblAlgn val="ctr"/>
        <c:lblOffset val="100"/>
        <c:noMultiLvlLbl val="0"/>
      </c:catAx>
      <c:valAx>
        <c:axId val="3850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15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B4E-B540-48DA-B98C-48A1E4B6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16E-8D72-43FB-B8B7-E4F744FE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5DE-EAB0-486A-B49C-EDFC4C28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D36-66F9-4104-A2D4-D47DC4B3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E37-9B8A-44B7-A3FC-86579F22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D37-2C3A-4DE7-A9F5-E928BE12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058-57F3-4B39-A3A5-63C381B0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01D-15D8-4114-BA89-AA74B932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713-33D2-4898-B5DE-B29A5446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562-82E6-492D-982C-B763934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850-97D6-4385-9C9A-8E8B76AD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7E5-44CB-4E08-8A39-E17FE311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0D1AF-019D-4497-B9B6-DAD8F5840A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