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98884"/>
        <c:axId val="56003075"/>
      </c:barChart>
      <c:catAx>
        <c:axId val="38798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003075"/>
        <c:crosses val="autoZero"/>
        <c:auto val="1"/>
        <c:lblAlgn val="ctr"/>
        <c:lblOffset val="100"/>
        <c:noMultiLvlLbl val="0"/>
      </c:catAx>
      <c:valAx>
        <c:axId val="560030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98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7C03-2713-429C-9F8B-8A913807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C233-DFAD-4049-A866-6D0B4CFC3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C18-BEA0-40F2-A8CF-3CD5120CE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8373-4356-4584-BA85-0E0103307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120-7D7D-4E8C-86AF-9270550B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3158-5E7D-4646-A1E8-FDF93B131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819-A94B-4A29-820B-AC542479F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0694-F922-4A76-84FF-45AFD8349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7833-54C2-43C3-968A-38D0FDBC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EFE3-BC16-4E6C-B596-313F9DA0D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E0B5-6A89-48C9-97E7-AEEAE2C5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8241-07A6-4BE5-85E5-67D3619A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9DF6F-4650-433C-898C-5AD2FF9701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