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818126"/>
        <c:axId val="13651933"/>
      </c:barChart>
      <c:catAx>
        <c:axId val="898181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51933"/>
        <c:crosses val="autoZero"/>
        <c:auto val="1"/>
        <c:lblAlgn val="ctr"/>
        <c:lblOffset val="100"/>
        <c:noMultiLvlLbl val="0"/>
      </c:catAx>
      <c:valAx>
        <c:axId val="136519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8181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5158-6727-40EF-BAE3-10E293E3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10B-C95B-438B-AD0A-04ACA7DF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A4A3-F264-47A1-870A-4FE016629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B9E-0839-4245-B02A-5940FA18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8BF-D819-43E7-9247-15A9B1C1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6E9-375F-43A2-A7F1-1543AD53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7D2B-E47F-4ABD-8925-A7E1A35E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6FCF-F61B-41B7-81EB-EB638953C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94BB-631D-4A2D-A0F6-FAF10A9C3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FF24-4196-4A77-8A36-BF22DB65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1CFD-22C1-47E9-8A86-95E5DC3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E30A-6BC2-477B-8BC3-ABB868A1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56BA9-158A-4294-ADF4-EFC8E93C1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