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42278"/>
        <c:axId val="9875925"/>
      </c:barChart>
      <c:catAx>
        <c:axId val="62422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75925"/>
        <c:crosses val="autoZero"/>
        <c:auto val="1"/>
        <c:lblAlgn val="ctr"/>
        <c:lblOffset val="100"/>
        <c:noMultiLvlLbl val="0"/>
      </c:catAx>
      <c:valAx>
        <c:axId val="98759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22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7590-34CB-4E5C-8E8A-073138170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6559-B26E-4224-A30C-66AEFE94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47D8-7ABB-48F9-963F-C590E604E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0E6C-7E10-41D4-B7D0-E4A821E37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C105-9877-4A44-A4C7-76BB0443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1CB4-AC19-4BC0-86AE-476A938A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1847-C007-422C-9A3E-611EEA0A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307F-C945-4734-8B88-5B8EBA94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F69D-FFB4-48A6-9B3B-A3361033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E79C-2480-4DF9-9286-C0E01568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B0A5-8D4F-4B05-9AC5-EAF01E76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D64C-3E3A-4FAE-82D4-02E2067A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21DB9F-24A5-4128-AA63-1BE8CA99C3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