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25490"/>
        <c:axId val="86012604"/>
      </c:barChart>
      <c:catAx>
        <c:axId val="19625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12604"/>
        <c:crosses val="autoZero"/>
        <c:auto val="1"/>
        <c:lblAlgn val="ctr"/>
        <c:lblOffset val="100"/>
        <c:noMultiLvlLbl val="0"/>
      </c:catAx>
      <c:valAx>
        <c:axId val="86012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25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E80-82A2-4C20-9790-CF0AE3DA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013-75FB-4E76-868C-1C13D7E6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B51-D684-44A8-835B-862A41EE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1CF-7255-4393-8F4C-7D537C29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551-386C-4DC3-AFA8-2F9ABC1F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9D1-4408-451F-B3A0-15233A9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83B-8F9C-4AE9-A5F8-1C0024DE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385-EA67-4F3F-99CC-19549743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78E-C137-4B69-AE9E-065B157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996-49F7-40BF-BB08-8FD387FC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EC8-B5E0-4DE3-BD5C-898B655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51C-30A3-420B-97D0-18FF7C7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A75F6-67CF-40E4-A83A-0F971171A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