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83513"/>
        <c:axId val="39875570"/>
      </c:barChart>
      <c:catAx>
        <c:axId val="32083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75570"/>
        <c:crosses val="autoZero"/>
        <c:auto val="1"/>
        <c:lblAlgn val="ctr"/>
        <c:lblOffset val="100"/>
        <c:noMultiLvlLbl val="0"/>
      </c:catAx>
      <c:valAx>
        <c:axId val="39875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83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D46D-1A20-41F3-AD44-5C968867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B90-D11C-4034-8675-65DDA5CB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31AE-7674-4E29-9AC5-1ED23ED5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3EA-CBB5-435F-A620-5FEF11AB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064-3E00-4E2A-9EC8-D495E8A0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85D-F22A-4099-9DC9-8F964FD6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70B-8C61-4589-9AF9-ABFBD1D3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5DE-9A59-4F08-9603-6746C764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410-3EE6-4DCB-9077-297C4EBB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D563-AE97-4C80-84B5-674B3095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3C19-407F-4D1A-86EF-5DCB413E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113-816B-405E-B8B8-97968D1B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14BF2-4AE5-499F-ADCB-B96CE95D1A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