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74695"/>
        <c:axId val="4433753"/>
      </c:barChart>
      <c:catAx>
        <c:axId val="61374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3753"/>
        <c:crosses val="autoZero"/>
        <c:auto val="1"/>
        <c:lblAlgn val="ctr"/>
        <c:lblOffset val="100"/>
        <c:noMultiLvlLbl val="0"/>
      </c:catAx>
      <c:valAx>
        <c:axId val="4433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74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871-0EEE-486A-8731-7383876C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BC3-38AD-4751-A830-058F666D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40A8-9D09-44EE-A396-9693CD43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AC5-E9D4-45F1-A90F-8ED7D0AD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B3FC-F824-4850-9DF6-6D54AC2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1F2-3E2D-4ECC-A136-AC036D9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542-642C-4DB4-8918-51A81A95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D52-9654-41F2-9548-D70FFBEC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B240-7EDA-4C6A-B6F8-5457A4A6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24F-998B-441A-BB4D-22CEE8D5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24C-24EC-4824-843E-B678DC0A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4CD-5BE8-4E25-A403-345E2D3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EF183-AC57-4732-9B4D-F4B0BD118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