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82423"/>
        <c:axId val="70554048"/>
      </c:barChart>
      <c:catAx>
        <c:axId val="35382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54048"/>
        <c:crosses val="autoZero"/>
        <c:auto val="1"/>
        <c:lblAlgn val="ctr"/>
        <c:lblOffset val="100"/>
        <c:noMultiLvlLbl val="0"/>
      </c:catAx>
      <c:valAx>
        <c:axId val="7055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2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A05-76CB-4CE4-B2E2-B770678A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046-96C3-4480-A5C1-51C26726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9B3-9B28-4A1C-A079-A48C271B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289-3423-468B-945B-424BD3C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3E7-4519-4E56-B917-0523E30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490-95E0-44B1-8B60-B7DD1A6E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30C-CC4E-4D47-94A4-C286C64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EAE-02A5-42E2-A54C-BB386C0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0DA-0721-42D8-8A42-527A03D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104-6E43-475F-9747-A1AF3DC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236-0611-4C86-9DB3-C675BEE7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769-550A-4B6F-8913-236952E1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0627B-96C4-46D9-8BAD-49192DE0B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