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02799"/>
        <c:axId val="33104604"/>
      </c:barChart>
      <c:catAx>
        <c:axId val="142027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04604"/>
        <c:crosses val="autoZero"/>
        <c:auto val="1"/>
        <c:lblAlgn val="ctr"/>
        <c:lblOffset val="100"/>
        <c:noMultiLvlLbl val="0"/>
      </c:catAx>
      <c:valAx>
        <c:axId val="33104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027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231-CBF0-4D9F-AE0F-94025A33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608-00A8-4A8A-A12A-AD8D04B2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340-9379-4C29-805C-BC9A5462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B8D-3C23-415E-9B4E-A9C05E20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6A6-AF3E-4CFE-A4AE-ACD8434D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BC6E-8D47-4C8A-ADA9-A31B7D35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9A3-010F-450B-AEA6-2F789A0A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223-1E6F-40F4-A7EC-49350512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930-0A61-4E19-8002-1DD81E06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E40-EA42-4918-AECB-FF4C6C99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0DD-434A-410F-9ABF-BFE05994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488-23F8-4512-9D31-C1E7969F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D7E6B-187C-4C47-BDAC-5747877A6B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