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03451"/>
        <c:axId val="73974047"/>
      </c:barChart>
      <c:catAx>
        <c:axId val="35403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74047"/>
        <c:crosses val="autoZero"/>
        <c:auto val="1"/>
        <c:lblAlgn val="ctr"/>
        <c:lblOffset val="100"/>
        <c:noMultiLvlLbl val="0"/>
      </c:catAx>
      <c:valAx>
        <c:axId val="73974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03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944-BD9F-415B-A136-FCD63003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5D3-C08E-4612-A9C4-40AF9932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44C-F66E-4CA0-952C-2B499CCD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005-84AC-4968-A845-AC4FD387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ADC-2C3B-4F6A-8828-D56EFE80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B0E-3706-4D73-8852-A2C8A1EE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22F-500F-465F-A859-0C746BC6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427-F4F3-42AB-BC77-BDDC21D5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4E6-152D-45DA-8F9F-FA95C75D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D32-D1E5-467C-A743-89B47E64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08F-8FDB-4584-BA8B-ACD27147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DFE-2274-4E1F-921E-B3A0978F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C24C3-5388-47C3-A69A-28DA457049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