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31957"/>
        <c:axId val="89442680"/>
      </c:barChart>
      <c:catAx>
        <c:axId val="20531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42680"/>
        <c:crosses val="autoZero"/>
        <c:auto val="1"/>
        <c:lblAlgn val="ctr"/>
        <c:lblOffset val="100"/>
        <c:noMultiLvlLbl val="0"/>
      </c:catAx>
      <c:valAx>
        <c:axId val="89442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31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1E1-E44D-4DA0-89ED-49332B02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617-AB64-4B4F-ACD0-6EF59ADD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0B0A-A43E-4CFF-AC15-202813DB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254-76FD-429F-A1D0-673FB308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E18-29AF-4C3F-B341-CA4FB1B5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1B1-86BA-4DAD-9151-6542BBC6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E8F-834B-4BF2-A1DF-8F27B268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223-265C-47AB-981E-FC85558F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C9B-CD36-4CDA-93A9-C2FFB86F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972-70E1-42E0-B73A-360F3A88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F3F-6BAD-4C2F-9206-66877BAE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32A-679D-4F6A-91B8-118C3A90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1ECE1-EE77-4819-9C91-79718ED378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