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54160"/>
        <c:axId val="54519697"/>
      </c:barChart>
      <c:catAx>
        <c:axId val="84354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19697"/>
        <c:crosses val="autoZero"/>
        <c:auto val="1"/>
        <c:lblAlgn val="ctr"/>
        <c:lblOffset val="100"/>
        <c:noMultiLvlLbl val="0"/>
      </c:catAx>
      <c:valAx>
        <c:axId val="54519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54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827-ADDF-41DE-B13A-F5496D1F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757-54B3-4C93-8457-E5C111EE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68A-831F-4A0A-A10B-0BA65878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ABE-D955-4132-B525-2DFE26B4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1AD-92EB-4A28-861A-1915D61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358-CCFE-463C-B7EC-5FA87800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0B7-8231-47E3-B3AD-CBCB327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457-CD69-43F9-BF15-DB7795FF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343-CB40-46BB-A8BF-AB24A3A8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47A-8535-4D04-AC1B-A18246E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411-3A0A-4B51-B0E8-930C8D5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D7A-B413-4450-A7E9-4540849F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B299E-F717-489F-9848-3032402C3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