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40966"/>
        <c:axId val="1076755"/>
      </c:barChart>
      <c:catAx>
        <c:axId val="85740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6755"/>
        <c:crosses val="autoZero"/>
        <c:auto val="1"/>
        <c:lblAlgn val="ctr"/>
        <c:lblOffset val="100"/>
        <c:noMultiLvlLbl val="0"/>
      </c:catAx>
      <c:valAx>
        <c:axId val="1076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40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C5F-2B46-4410-B721-D8512650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66A-90E1-404A-8BB7-850AD948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362-8221-4059-B445-D04CB8D0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204-3C1E-45E6-BB0F-A5FDB47B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9C1-0F4C-4C02-93B0-E98E5BD8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4AD8-4121-4B3E-B695-A3F294B1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E2B-8BF1-4268-8B8B-910B533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279-A638-4344-87C8-02D88FB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886-5A55-4DFC-8351-BA0FAA9C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F16-AE6F-4854-9017-D56B5E24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BB5-BA8A-4023-B093-ABB2D3C4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BF7-1990-4D64-8952-9D54A64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DFB81-5D45-481D-8FF0-5FE986EDE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