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50984"/>
        <c:axId val="41140909"/>
      </c:barChart>
      <c:catAx>
        <c:axId val="912509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40909"/>
        <c:crosses val="autoZero"/>
        <c:auto val="1"/>
        <c:lblAlgn val="ctr"/>
        <c:lblOffset val="100"/>
        <c:noMultiLvlLbl val="0"/>
      </c:catAx>
      <c:valAx>
        <c:axId val="411409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509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A9A-D2E4-4C17-8E04-A5FFDF65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F79-482C-4605-8033-701F3998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9BFD-1E04-4585-B0FE-F058DBDD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5A3-EA51-4009-8C1B-ACF021AF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6592-76B1-4395-8E24-1DF02B55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C596-B1A5-45E6-B104-39DB8082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392F-EDE9-4DE9-9FC8-2CBA8BF0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86A6-E971-4790-A70F-BE55EB85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8BC4-1D2C-48FB-A0B2-5FD6B9FA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5F4C-B279-4201-8DDA-FF8501C1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6943-9336-4C44-8B36-06B9DCF8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4CEE-E4CD-496A-A060-3300C03F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24DA4-42C9-42E2-962C-743F5DCB4D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