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07252"/>
        <c:axId val="82562952"/>
      </c:barChart>
      <c:catAx>
        <c:axId val="61007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62952"/>
        <c:crosses val="autoZero"/>
        <c:auto val="1"/>
        <c:lblAlgn val="ctr"/>
        <c:lblOffset val="100"/>
        <c:noMultiLvlLbl val="0"/>
      </c:catAx>
      <c:valAx>
        <c:axId val="825629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07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1B18-60BA-4EEA-B41B-F73D1173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3163-0863-40E9-B471-78A76801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E4E9-065F-45DE-8531-3B582BFE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305-196B-4B36-B7D9-D6F9DB24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8A9-567F-42AD-B5F0-86A8161F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FF5-288A-4D10-AB8F-D267B566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2C9-CF0D-4BDF-9769-83883A68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340-C701-4793-BB40-4F74A80B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246-919B-4455-9A35-5E67813E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EF3C-4E31-473B-B2EC-439141E8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EC1-5808-41B3-96DE-6B204D59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F7F-96BC-4054-A14B-F963D41D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D1B06-5D93-4110-AD0D-2094671A9A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