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53493"/>
        <c:axId val="9682293"/>
      </c:barChart>
      <c:catAx>
        <c:axId val="35953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2293"/>
        <c:crosses val="autoZero"/>
        <c:auto val="1"/>
        <c:lblAlgn val="ctr"/>
        <c:lblOffset val="100"/>
        <c:noMultiLvlLbl val="0"/>
      </c:catAx>
      <c:valAx>
        <c:axId val="9682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53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FC7-1A4E-43BA-A1C5-ACD55344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F6C-50C3-4EBA-8FD5-99353F70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353-250F-4708-9AF6-3ACA1E43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B9D-4F57-4027-8355-5B64FC43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288-8458-4328-9A8F-45920AC5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91B-7E2B-47C7-B1A5-1EF78E89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E6E-9BB9-434A-B2A8-C2CA0F40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69B-CBB8-498E-9E59-6D579377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155-DE1A-4839-B000-685ED683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5A2-1FE5-42A6-AE96-BC33F3CE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FD3-8453-4628-811A-84F11DF8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4C8-4EB8-4B8B-B4A8-2DA82830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1002F-F6AD-4ADF-8BFA-EA06DC18FA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