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93485"/>
        <c:axId val="99924954"/>
      </c:barChart>
      <c:catAx>
        <c:axId val="68293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24954"/>
        <c:crosses val="autoZero"/>
        <c:auto val="1"/>
        <c:lblAlgn val="ctr"/>
        <c:lblOffset val="100"/>
        <c:noMultiLvlLbl val="0"/>
      </c:catAx>
      <c:valAx>
        <c:axId val="99924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93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B82-5724-478A-AAA7-496A7CE7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2A4-34A8-40FD-BA92-49011565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055-CAB0-4DBB-8431-74B53450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7EC-A9A0-4B55-B905-6FA85A12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182-1939-468B-8219-CE44C8B7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944-B731-4C18-8EC1-902563B6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234-9AE6-42B7-88AC-00EA5B23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3EB-94CF-4EDE-9F51-7CD9CF7E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422-B02A-4D28-B6AB-86FA4EFC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3A4-FDEB-45D1-806F-6F074161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473-7DCB-4903-B832-661BB3DD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6BF-DBBE-4CB7-8588-772B95CE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D8663-F4E8-4F2F-BD38-6689744AB9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