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48202"/>
        <c:axId val="64034116"/>
      </c:barChart>
      <c:catAx>
        <c:axId val="35748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34116"/>
        <c:crosses val="autoZero"/>
        <c:auto val="1"/>
        <c:lblAlgn val="ctr"/>
        <c:lblOffset val="100"/>
        <c:noMultiLvlLbl val="0"/>
      </c:catAx>
      <c:valAx>
        <c:axId val="64034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48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684-40AE-4AFE-8788-A3C8F3F3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1A3-D67E-4277-A5B8-EF46D595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688-534E-4863-8918-F9AF13E9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46B-DC51-4829-BD30-0B6A680B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871-4300-405D-991C-DCC25224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C5E-BE9C-4494-97FD-F7162F27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A98-328C-4B1C-8B95-E02F8E78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910-C4D3-4F51-AF4C-58F4A383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7EF-EA56-4EAB-978D-2E94FB21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E7B-39D4-44EC-992D-8B716696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767-2117-44D8-A151-D03106ED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DDA-AE6F-447C-8CE1-36043CE8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6B421-04C8-4DD2-A87A-D41928DDF4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