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007328"/>
        <c:axId val="42058870"/>
      </c:barChart>
      <c:catAx>
        <c:axId val="930073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058870"/>
        <c:crosses val="autoZero"/>
        <c:auto val="1"/>
        <c:lblAlgn val="ctr"/>
        <c:lblOffset val="100"/>
        <c:noMultiLvlLbl val="0"/>
      </c:catAx>
      <c:valAx>
        <c:axId val="420588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0073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DD8F-F162-4DFC-AC48-C0B3FFDD3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7291-5853-4454-859C-C24A4BC1E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275F-0580-4E47-8B71-0ADA96125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8AD9-7652-498F-88B8-3A0C5180F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E798-7C5C-45EC-945E-E56CC82C8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72B0-58A7-445B-A252-F881F5C3E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1F36-B9F1-4164-B5D6-65DE894C3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D572-F168-44F9-B1BA-461BBB5E6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ADFB-D0C0-4F76-928F-C4D5547F4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2DAE-F973-46F4-8B79-6FF3EEAC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7CE5-A0F1-4CC1-8F69-7D1F22C3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5EE1-B3C7-4C18-AC5F-2BAD6CCE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B3E7C1-9F15-47C8-B810-40BD0CBE6B0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