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50625"/>
        <c:axId val="45001052"/>
      </c:barChart>
      <c:catAx>
        <c:axId val="20850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1052"/>
        <c:crosses val="autoZero"/>
        <c:auto val="1"/>
        <c:lblAlgn val="ctr"/>
        <c:lblOffset val="100"/>
        <c:noMultiLvlLbl val="0"/>
      </c:catAx>
      <c:valAx>
        <c:axId val="45001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50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46D-66A0-405F-8ED7-EAE3CC06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DF9-7283-4BC3-BE06-B28EFAC9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35D-AB21-482C-8B10-FD9EDA55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964-A141-472B-8278-673CEADD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C93-51B8-4B3D-AE01-C4178C0D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946-2232-4D7F-92AD-969A1AF4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9E5-437C-44F1-BD2A-4C373336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6B9-8CED-46B5-9AFA-86DE1590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960-2D98-44C2-BAAF-DD4C7E80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3EE-802C-433D-9B50-48DCF22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C1E-F1DC-4289-88C4-68F2D94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5B9-FB33-4257-BDBB-29703FC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48541-ECDF-49F3-801C-B072A161A9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