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09709"/>
        <c:axId val="87615755"/>
      </c:barChart>
      <c:catAx>
        <c:axId val="46509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15755"/>
        <c:crosses val="autoZero"/>
        <c:auto val="1"/>
        <c:lblAlgn val="ctr"/>
        <c:lblOffset val="100"/>
        <c:noMultiLvlLbl val="0"/>
      </c:catAx>
      <c:valAx>
        <c:axId val="87615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09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29F-5557-4334-96C9-6F129FFE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1BC-945F-4D97-8CDA-FE8D2137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D85-7BB2-454C-AC15-60B4898F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48D-8960-4788-8227-2AB85932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50D-2D9B-432C-B919-E12EDE0A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E69-A98E-4F32-AB1C-34CFCEF8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CAA-EED1-464A-8AF3-5A458030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3BC-AEB9-4947-A682-9860613F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F5A-EC38-444E-B9FF-AE4DBE7D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855-AFAC-40A5-BE1C-0B7B287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B87-6A61-45D4-9409-AF7A157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D4B-7FA4-44C8-BFE9-42AC365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1B47B-49FF-45C6-A5C0-20A74CF23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