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940700"/>
        <c:axId val="50946733"/>
      </c:barChart>
      <c:catAx>
        <c:axId val="579407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946733"/>
        <c:crosses val="autoZero"/>
        <c:auto val="1"/>
        <c:lblAlgn val="ctr"/>
        <c:lblOffset val="100"/>
        <c:noMultiLvlLbl val="0"/>
      </c:catAx>
      <c:valAx>
        <c:axId val="509467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407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2BB5-8BAA-44C9-B6D0-F9B99C733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CBFA-51A3-4942-AF63-E3958318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03BE-7CC1-4FF5-A773-2BC9934F4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B57F-174F-4914-8BB2-312CB952A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3BFA-B1C7-4A2F-A19F-9CCAAFFA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A21A-7746-41A7-9F4B-53E0B798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8B09-501C-4C72-BA06-01263626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0B85-ACA8-4C84-B105-52BFB020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05CF-DA0B-4711-A3E1-C358AAB2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3045-48A5-4A51-9D8F-993C1F2E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AC97-3A31-494A-8853-4D3CEE8E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86AC-A082-40E4-B58C-6986BD1A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271EC-2E07-4625-8C9A-3664732894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