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187634"/>
        <c:axId val="42009316"/>
      </c:barChart>
      <c:catAx>
        <c:axId val="791876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09316"/>
        <c:crosses val="autoZero"/>
        <c:auto val="1"/>
        <c:lblAlgn val="ctr"/>
        <c:lblOffset val="100"/>
        <c:noMultiLvlLbl val="0"/>
      </c:catAx>
      <c:valAx>
        <c:axId val="420093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876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B895-98FA-46C3-92B6-A14777561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E4B6-730D-4F57-BFAB-4CCBFC2F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72E1-CE95-4810-88CA-1A85BA618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8C72-2E39-4720-898C-B46EC5189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7A6D-5AF4-4ECD-83C8-65EE83F1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EFA2-9173-49D0-A236-A42F1D80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4BFD-4F5D-4465-8353-06CE9268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48EF-D2D6-4595-8B87-F79A1223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E527-FCC2-43D5-A07A-62020D4B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D165-FC3D-41C1-83B0-6418DBCE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C666-B7B5-4B65-B080-7A67AA7E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3BAC-26E2-47A3-9000-ACD87CB0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8B551-A6ED-4500-B97B-C50E88230F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