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754010"/>
        <c:axId val="79408805"/>
      </c:barChart>
      <c:catAx>
        <c:axId val="557540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08805"/>
        <c:crosses val="autoZero"/>
        <c:auto val="1"/>
        <c:lblAlgn val="ctr"/>
        <c:lblOffset val="100"/>
        <c:noMultiLvlLbl val="0"/>
      </c:catAx>
      <c:valAx>
        <c:axId val="794088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540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349B-822C-41FE-A7BE-75CC632B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8A13-3F39-4975-8CB4-6D5B9377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E4C2-1AA5-4194-A9A0-8FC3B771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FA8-8609-46AA-ABCC-05729B6E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EA9F-AD25-4590-8912-59EBA9A4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6556-1BDB-4BB4-8E61-554DF30C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DB9E-643A-4263-87BE-95B95D5E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ED76-C435-451E-ABBE-26486853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DB3-6102-4A3F-BE88-7561A2C2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BA8C-662D-4938-9642-AB7C2BEB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4DB-FCF9-45C3-83E1-8D9B7F55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409-A2BE-4FF8-AB23-8667A90E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D16BE-4DA3-4CA1-B832-87ED269937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