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70190"/>
        <c:axId val="39263294"/>
      </c:barChart>
      <c:catAx>
        <c:axId val="55870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3294"/>
        <c:crosses val="autoZero"/>
        <c:auto val="1"/>
        <c:lblAlgn val="ctr"/>
        <c:lblOffset val="100"/>
        <c:noMultiLvlLbl val="0"/>
      </c:catAx>
      <c:valAx>
        <c:axId val="39263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70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99F-FAEF-461D-B0E6-2A9C7C0E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0E1-BEF7-42CC-AFB4-8F6A46E0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DAD-F7A9-44F4-B5FD-4566C7B2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4C8-8EAB-40B6-8610-86B1121B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010-A9D7-4C55-80B4-68DAA2B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9D8-2B83-4C33-BEC3-E244647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79F-3A9B-4348-9ED8-48450DAA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8A6-1F6A-472B-A055-99C9CF2C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487-E273-49E7-AC07-910516B8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8EC-F9A5-415F-8047-5C4B74C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E00-E0DA-405A-9C91-AE6BF5F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581-ADB6-4670-BA94-3AE99857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C4D5-53B1-4C0A-B6AD-3D55B2B30C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