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92919"/>
        <c:axId val="37044300"/>
      </c:barChart>
      <c:catAx>
        <c:axId val="977929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44300"/>
        <c:crosses val="autoZero"/>
        <c:auto val="1"/>
        <c:lblAlgn val="ctr"/>
        <c:lblOffset val="100"/>
        <c:noMultiLvlLbl val="0"/>
      </c:catAx>
      <c:valAx>
        <c:axId val="37044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929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184-4BE3-4AE3-83EA-66B9A416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332-F296-4EE8-9905-F8C55608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F37-6859-4D29-A28A-76EED41A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3535-D0D5-47D7-AE4F-D937E1CC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505-4989-4D9B-8E1A-74399EA2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997-0204-4414-9B3D-ED761680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0FC-4CC2-4696-B4C2-3D0B1023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4B8-03AB-4A67-B1B8-31A108DE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707-EEEE-4B3C-856B-BF89270F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067-25AA-4768-9964-90B56776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147-D6A1-4BDF-BE79-CD72DC83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6A7-AA85-460D-B08F-88B66A51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48963-EAFA-4B6A-BF83-DF4EAFFA8B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