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66241"/>
        <c:axId val="34853402"/>
      </c:barChart>
      <c:catAx>
        <c:axId val="237662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53402"/>
        <c:crosses val="autoZero"/>
        <c:auto val="1"/>
        <c:lblAlgn val="ctr"/>
        <c:lblOffset val="100"/>
        <c:noMultiLvlLbl val="0"/>
      </c:catAx>
      <c:valAx>
        <c:axId val="34853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662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A3A-6AFA-4C43-8414-5C048047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277-4AE9-4F00-A5F1-076E5533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276-DE57-4087-BE73-B3713FBB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7319-C8A3-47BD-ABC5-78F90808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DE7-789D-4907-AEE9-92EE510D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0C3-CDF2-4EC7-B432-3B2498A0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E3F-59C7-44C2-A842-A65D4106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1F4D-FFF5-4C18-AB2C-6CE93F15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DEE-44AF-430F-B4BC-F27F0FB2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A0E-0A1A-48B6-B7FF-0716CE59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37C-2269-4F89-8ADC-7B25C06E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F18-9488-4E79-841B-C56EEC0A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AC983-E574-4A0C-902B-1216C77E39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