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59507"/>
        <c:axId val="58964737"/>
      </c:barChart>
      <c:catAx>
        <c:axId val="90159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64737"/>
        <c:crosses val="autoZero"/>
        <c:auto val="1"/>
        <c:lblAlgn val="ctr"/>
        <c:lblOffset val="100"/>
        <c:noMultiLvlLbl val="0"/>
      </c:catAx>
      <c:valAx>
        <c:axId val="58964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59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7D1-CBA3-4D7C-B86F-25D5CC53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E55-0461-47F1-B691-22E8DD3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324-9D5B-4FF2-9A8E-6A54D4DA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910-6EB9-499A-8E29-BEDB5E96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220-60D3-4A79-84AC-A2FF44A1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C7F-FB1B-49F7-B16C-15428508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454-0991-4E46-9E9A-89179E1C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63A-6D3E-44DE-8C38-B66B906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839-C636-402A-87A8-691032AF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E9A-A39B-4DEC-9C19-E208B414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F6C-FE47-41F4-9037-7C11968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CBF-407E-4BCD-B90F-59E2C40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B0B1B-6787-4947-842F-B5AC6EF2DF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