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84825"/>
        <c:axId val="62899003"/>
      </c:barChart>
      <c:catAx>
        <c:axId val="84884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99003"/>
        <c:crosses val="autoZero"/>
        <c:auto val="1"/>
        <c:lblAlgn val="ctr"/>
        <c:lblOffset val="100"/>
        <c:noMultiLvlLbl val="0"/>
      </c:catAx>
      <c:valAx>
        <c:axId val="62899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84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339-4BF3-4658-94E6-497CE77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238-3283-4008-94A6-B80AF7B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B4D-5704-49EA-9CAD-29DC0314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F51-0CED-432E-AA21-9087EBF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F11-EDA9-476A-B18C-DCA58F5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5A2-A7E4-4653-9232-387A7CE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B61-3121-4111-8521-7F3A7FE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416-F166-4DD5-951F-ED1C969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309-83DC-4D18-A519-0F595E3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0B6-9491-4C38-9BBB-69219BF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5CC-CD4B-42A1-8CE3-A068E6D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8F3-96ED-4507-ACEF-64C20E8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45FC-E83C-4A70-A5B6-F2E2C0449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