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196144"/>
        <c:axId val="81692651"/>
      </c:barChart>
      <c:catAx>
        <c:axId val="581961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92651"/>
        <c:crosses val="autoZero"/>
        <c:auto val="1"/>
        <c:lblAlgn val="ctr"/>
        <c:lblOffset val="100"/>
        <c:noMultiLvlLbl val="0"/>
      </c:catAx>
      <c:valAx>
        <c:axId val="81692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961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B1A9-BADD-4C77-9796-8B2B6758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A270-EBBE-4D3C-8B15-B95F3CDA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D8B8-77A9-44A0-9F5B-1B5FECB2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79A-A6CD-46D2-BB29-DB307B0D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2CF-6EF7-4A3F-9477-464F7E8F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E61-CC71-4811-8159-6821865D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231D-E354-4964-A61C-6671A553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1430-FCA8-4ED8-908E-94BEAB07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752D-E590-4218-9CB5-F40DD669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F5A-9ABE-41A4-B2A7-99A4FEC9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447D-148A-459D-B85B-69452617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262-BB17-41D1-912E-3073A7D9B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A55E1-5BD4-491F-B976-E0D5570040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