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48642"/>
        <c:axId val="36441224"/>
      </c:barChart>
      <c:catAx>
        <c:axId val="79148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41224"/>
        <c:crosses val="autoZero"/>
        <c:auto val="1"/>
        <c:lblAlgn val="ctr"/>
        <c:lblOffset val="100"/>
        <c:noMultiLvlLbl val="0"/>
      </c:catAx>
      <c:valAx>
        <c:axId val="36441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8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D27-1FA7-4BCF-82D3-327762E5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55C-FFAA-4812-B6BB-78C4EA19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C64-AA36-4219-8568-30883AA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37C-9FF0-4790-8631-4D58212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A50-3E38-4EA1-ADB4-4E588FA4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0F3-5061-49B7-8509-D0E16281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7C7-DF12-45B2-86C0-7323303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B67-CB8F-48EC-98BE-372E0D1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03A-65A9-42F6-88A3-1A395ACA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9CD-0479-42E8-8D86-A28D2F3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BEF-471A-49FD-87E0-517302C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66F-DD9F-4CCF-ACDF-81E7C25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745C6-A4A3-4C6E-8DC2-60E134E8D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