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43573"/>
        <c:axId val="45423503"/>
      </c:barChart>
      <c:catAx>
        <c:axId val="437435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23503"/>
        <c:crosses val="autoZero"/>
        <c:auto val="1"/>
        <c:lblAlgn val="ctr"/>
        <c:lblOffset val="100"/>
        <c:noMultiLvlLbl val="0"/>
      </c:catAx>
      <c:valAx>
        <c:axId val="45423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435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CEE8-3319-4662-859C-BBBB54C9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CF27-D1E4-496C-8CBD-E3A23ED7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284-A9EB-4F45-ACCA-4AB2D55C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2481-B4AB-47D4-99AB-37DC24A4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ED5-6DF0-437C-AB68-CD727C51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383E-9A9E-4C68-AB99-1F5CA04A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836-4B32-43FC-B522-632578F9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049-61FD-4DA4-B5AB-8C18C559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F054-8E5D-480D-8E74-DE0DD7E3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0C0-BF28-498B-8B9C-5EEB3F25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C4E-B384-4F50-8DF2-0BAC6C9E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E5D3-7F6A-47C1-987A-57F69A19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453D3F-B56C-40F3-B879-2A5C214DFD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