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911134"/>
        <c:axId val="43673707"/>
      </c:barChart>
      <c:catAx>
        <c:axId val="42911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73707"/>
        <c:crosses val="autoZero"/>
        <c:auto val="1"/>
        <c:lblAlgn val="ctr"/>
        <c:lblOffset val="100"/>
        <c:noMultiLvlLbl val="0"/>
      </c:catAx>
      <c:valAx>
        <c:axId val="436737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11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6F4-B861-4EC0-A1C4-9D9E3AC4C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32CC-B0AD-413C-9B4E-36B136BD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ABD-27C4-4EC6-9420-28177660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6D0-FCA3-43DD-8A87-DAB3AC27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84B-1B8F-42E5-BF49-A671923B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F34-5478-4670-90ED-D551F0E8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637B-BEBC-4F32-B7EF-4A45693D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1BEB-430D-41F6-9CFC-9F814CFC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735-0BE2-4731-A0CB-6954DB14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B90F-4C6F-458B-B665-991B4C6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3E74-DDB1-43D5-97E5-31E5A901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EEC-FD0D-4327-BF29-3222835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415DA-A51D-4D2D-ABD4-66EF91BA9D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