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37557"/>
        <c:axId val="37623066"/>
      </c:barChart>
      <c:catAx>
        <c:axId val="39237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23066"/>
        <c:crosses val="autoZero"/>
        <c:auto val="1"/>
        <c:lblAlgn val="ctr"/>
        <c:lblOffset val="100"/>
        <c:noMultiLvlLbl val="0"/>
      </c:catAx>
      <c:valAx>
        <c:axId val="37623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37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6AF-5D67-4845-A8E7-53A8F5B4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081-A72D-4B73-9500-01B5B6A7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E2D5-D79E-4DAD-AC21-43A1F9F7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A9B-C9AC-4B72-A432-E65F0559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DA4-41BD-49EA-8B1D-4B54AF0E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489-E468-4AFA-97F8-BA4B4FD7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205E-9B7F-439E-9E94-B3D07E12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70C-AE77-4B71-B740-F819424A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19A-8741-4EAC-88C5-F78633D0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005-5FF8-4884-88E9-EA6FE6E0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ED7-955B-4FD9-97C8-C4E88CD7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F1A-1621-4476-94E2-9214A121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D8AFD-5583-480F-926B-0B665A9A9E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