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32882"/>
        <c:axId val="88856867"/>
      </c:barChart>
      <c:catAx>
        <c:axId val="71132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6867"/>
        <c:crosses val="autoZero"/>
        <c:auto val="1"/>
        <c:lblAlgn val="ctr"/>
        <c:lblOffset val="100"/>
        <c:noMultiLvlLbl val="0"/>
      </c:catAx>
      <c:valAx>
        <c:axId val="88856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2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BCF-78BF-43F5-B6E0-0EB4E6EC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4AF-EB3E-4F41-A2C7-8ADDA9B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473-66D6-4BD9-9B24-151107D3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F06-3229-43E7-88A5-ACB15571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77D-E5FF-4B6F-AC0D-2DD852EA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503-CE5C-40A0-8848-A4097A3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41B-B117-4421-A653-D4DEC02C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20B-6E36-4817-9229-5D736B5B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1DD-BFEF-4F52-9A43-1E47868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0F0-0707-4F09-8B03-4D683DC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6AD-507F-4E7F-B6CE-B820D62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034-429B-48BB-B4BB-5B20AE4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E1555-B280-4366-9B4D-2CB8B08A1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