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71846"/>
        <c:axId val="80700898"/>
      </c:barChart>
      <c:catAx>
        <c:axId val="63071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0898"/>
        <c:crosses val="autoZero"/>
        <c:auto val="1"/>
        <c:lblAlgn val="ctr"/>
        <c:lblOffset val="100"/>
        <c:noMultiLvlLbl val="0"/>
      </c:catAx>
      <c:valAx>
        <c:axId val="80700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1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A3D-ECD0-438D-BD9D-4A2BE89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148-A358-4D6B-9DEC-ADCE957B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C3A-95F6-47F1-AB15-8E2FFE07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514-8AAB-48AE-B53F-3B764D9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5D7-29FF-4618-8990-4ED3E6D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2D7-F28C-4226-A25A-503B2B4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234-6CA5-4953-8F63-D78C50C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1D9-5371-4765-97CB-C19486B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08D-38C0-458D-9720-852582B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BDA-2278-46EA-8F1A-F19FF94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D5A-9991-4D6C-870A-0819F1C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FCB-F024-4939-A95C-1C5C3D7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FF0AA-8FDE-4A6C-8053-F2E7FFB22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